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220-56D5-4DF1-8A4F-ADB30E4B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977-5D14-4EF1-9A90-90974A05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B458-804E-49F3-A8F8-1FAD35DE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381C-5EF7-45F0-B576-5C945562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E2CA-7C72-46BC-BF6B-708BCE9E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254A-CC07-4357-B4C8-01E9A8E5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A79-896C-4F79-A550-CD45C02B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A59-75D3-4CF0-BDEE-B38B22F1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CFFD-6441-4AA5-9335-1BDF7737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F902-EF0F-4028-8F21-86B2DA8D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0101-E385-4BD0-9F60-DA2F2B10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EEBD-1742-43BF-8B09-881F8F60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6B28-EECD-4B69-BB8F-F6951B726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amlearning.co.uk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rival – until 2:25p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5 mins to answer these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implif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4a + b – 2a – 9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8g x 2) – 3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ultiply out the brack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7(m + 4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19(2p – 3q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ey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peration – there are 4 operations… +, –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×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erse Operation – each operation has an inverse (or opposite) oper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 and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– are inve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×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÷ are inve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inverse operation acts like the undo function on a compu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solve an equation you have to do the inverse operations in or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.g. 3f – 10 =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 the inverse of subtracting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d 10 to both si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f – 10 + 10 = 2 + 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f = 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 the inverse of multiply f by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ivide both sides by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f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÷ 3 = 12 ÷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 =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tivity Three – 10mi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341960"/>
        </p:xfrm>
        <a:graphic>
          <a:graphicData uri="http://schemas.openxmlformats.org/drawingml/2006/table">
            <a:tbl>
              <a:tblPr/>
              <a:tblGrid>
                <a:gridCol w="2602080"/>
                <a:gridCol w="2884320"/>
                <a:gridCol w="2743200"/>
              </a:tblGrid>
              <a:tr h="675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lve these equations, showing your work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asy (Level 5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erate (Level 6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rd (Level 6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a + 1 = 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d – 13 = -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3 = 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b – 3 = 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e + 20 = 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3 =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= 2c –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6 = 7f +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 = 9 + </a:t>
                      </a: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468360" y="602136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= 4; b = 6; c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6021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 = -13; e = -5; f = 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12000" y="602136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 = 21; k = 45; w =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MUST be able solve a simple algebraic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of us SHOULD be able to solve algebraic equations involving negative numb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of us COULD be able to solve an algebraic equation involving divi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en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four operatio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meant by “inverse operation”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ould you explain it to someone who didn’t know how to solve an equ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this as an example: 4g + 3 =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y to use “inverse operation” in your explan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ccess SAM Learning (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samlearning.co.uk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o to KS3 SATS &gt; Maths &gt; Algebra Part 2 &gt; Solving Linear 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geb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ving Simple 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MUST be able to solve a simple algebraic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of us SHOULD be able to solve algebraic equations involving negative numb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of us COULD be able to solve an algebraic equation involving divi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’s lesson will consist of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ity One – Loop g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llenge – Can you solve 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ity Two – How did you solve 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ity Three – Solving 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n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tivity O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p g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id you solve the equatio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ere you think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4960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llenge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f I gave you any equation would you know how to solve i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see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 you solve thes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dd-numbered Ch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3f – 10 = 2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ven-numbered Ch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5f + 9 = 29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did you solve thes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dd-numbered Ch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3f – 10 = 2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f = 4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ven-numbered Ch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5f + 9 = 29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f = 4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ctivity Two – 3 mi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to the person next to you how you solved your equation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f you got the answer wrong, explain to your partner what you did and see if they can show you where you went wrong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06:15:29Z</dcterms:created>
  <dc:creator>Bruno Reddy</dc:creator>
  <dc:description/>
  <dc:language>en-US</dc:language>
  <cp:lastModifiedBy>Bruno Reddy</cp:lastModifiedBy>
  <dcterms:modified xsi:type="dcterms:W3CDTF">2005-10-08T20:22:05Z</dcterms:modified>
  <cp:revision>7</cp:revision>
  <dc:subject/>
  <dc:title>Arrival</dc:title>
</cp:coreProperties>
</file>